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  <p:sldId id="294" r:id="rId58"/>
    <p:sldId id="295" r:id="rId59"/>
    <p:sldId id="296" r:id="rId60"/>
    <p:sldId id="297" r:id="rId61"/>
    <p:sldId id="298" r:id="rId62"/>
    <p:sldId id="299" r:id="rId63"/>
    <p:sldId id="300" r:id="rId64"/>
    <p:sldId id="301" r:id="rId65"/>
    <p:sldId id="302" r:id="rId66"/>
    <p:sldId id="303" r:id="rId67"/>
    <p:sldId id="304" r:id="rId68"/>
    <p:sldId id="305" r:id="rId69"/>
    <p:sldId id="306" r:id="rId70"/>
    <p:sldId id="307" r:id="rId71"/>
    <p:sldId id="308" r:id="rId72"/>
    <p:sldId id="309" r:id="rId73"/>
    <p:sldId id="310" r:id="rId74"/>
    <p:sldId id="311" r:id="rId75"/>
    <p:sldId id="312" r:id="rId76"/>
    <p:sldId id="313" r:id="rId77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slide" Target="slides/slide39.xml"/><Relationship Id="rId59" Type="http://schemas.openxmlformats.org/officeDocument/2006/relationships/slide" Target="slides/slide40.xml"/><Relationship Id="rId60" Type="http://schemas.openxmlformats.org/officeDocument/2006/relationships/slide" Target="slides/slide41.xml"/><Relationship Id="rId61" Type="http://schemas.openxmlformats.org/officeDocument/2006/relationships/slide" Target="slides/slide42.xml"/><Relationship Id="rId62" Type="http://schemas.openxmlformats.org/officeDocument/2006/relationships/slide" Target="slides/slide43.xml"/><Relationship Id="rId63" Type="http://schemas.openxmlformats.org/officeDocument/2006/relationships/slide" Target="slides/slide44.xml"/><Relationship Id="rId64" Type="http://schemas.openxmlformats.org/officeDocument/2006/relationships/slide" Target="slides/slide45.xml"/><Relationship Id="rId65" Type="http://schemas.openxmlformats.org/officeDocument/2006/relationships/slide" Target="slides/slide46.xml"/><Relationship Id="rId66" Type="http://schemas.openxmlformats.org/officeDocument/2006/relationships/slide" Target="slides/slide47.xml"/><Relationship Id="rId67" Type="http://schemas.openxmlformats.org/officeDocument/2006/relationships/slide" Target="slides/slide48.xml"/><Relationship Id="rId68" Type="http://schemas.openxmlformats.org/officeDocument/2006/relationships/slide" Target="slides/slide49.xml"/><Relationship Id="rId69" Type="http://schemas.openxmlformats.org/officeDocument/2006/relationships/slide" Target="slides/slide50.xml"/><Relationship Id="rId70" Type="http://schemas.openxmlformats.org/officeDocument/2006/relationships/slide" Target="slides/slide51.xml"/><Relationship Id="rId71" Type="http://schemas.openxmlformats.org/officeDocument/2006/relationships/slide" Target="slides/slide52.xml"/><Relationship Id="rId72" Type="http://schemas.openxmlformats.org/officeDocument/2006/relationships/slide" Target="slides/slide53.xml"/><Relationship Id="rId73" Type="http://schemas.openxmlformats.org/officeDocument/2006/relationships/slide" Target="slides/slide54.xml"/><Relationship Id="rId74" Type="http://schemas.openxmlformats.org/officeDocument/2006/relationships/slide" Target="slides/slide55.xml"/><Relationship Id="rId75" Type="http://schemas.openxmlformats.org/officeDocument/2006/relationships/slide" Target="slides/slide56.xml"/><Relationship Id="rId76" Type="http://schemas.openxmlformats.org/officeDocument/2006/relationships/slide" Target="slides/slide57.xml"/><Relationship Id="rId77" Type="http://schemas.openxmlformats.org/officeDocument/2006/relationships/slide" Target="slides/slide58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3E64-0B56-4269-91D9-6E275A06C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19EC-4AF0-48EA-942D-EF6170FD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0FA68C-5743-44CC-A26A-6B83E56A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48A0CC-73C3-4DD1-94B6-F1EBA5A6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B2E49-58F6-48C6-B79B-A877C88D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7F1EEC-FC71-413A-9EE5-A18948EE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650706-105B-4BBC-A2A8-50C4FBAC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46539-94A0-40CA-8C44-324BC64B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31BECC-66DB-4A26-9A64-7F05D9EA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63E321-4E14-4B13-886D-9B80917AA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E087E-26A1-4209-A106-59B0583B6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AB8B98-A412-4D2D-99D8-CEE0ECB83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4838-75AF-44FB-B3A9-C20990780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924FC-7D6E-4C6D-BFCC-16584218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01ED2C-239D-45A1-8EA8-0E38A708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FFB757-43B0-40CE-9DE1-ECD494B7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939265-102D-4D09-84F5-74288377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549B57-6C44-4C36-9125-E9F0BBC6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FED6F6-E30C-4D50-86DC-39D097D5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A322A0-4702-4B30-9254-C39339DB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E487B3-8481-426C-9BD2-DEEF3CB7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0F5B2A-2E74-4B58-AAA3-A84AEACB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3BCAF7-5482-4049-8C17-998CAFB3E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14E6-D019-4EFE-A1BB-B7E2C3AB8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11EF4C-91BA-4D0C-8BA3-930D1F7FF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EEB21-CAE4-468D-9C86-53FC021B8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AA9A5-5E7F-463E-97F7-11E2C810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332F7-FDA4-4F65-9743-FC6E63A6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98CEB-6DD8-4DF4-AFB0-14C061BA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7CD78-EB35-4D1B-AAFF-ED414335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C01A6-16C3-4E26-BA61-5DEE4D28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1625F-5E9D-4075-8D03-942C33C0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AC5812-73D5-490D-8698-7CA60F53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66E703-3450-4FF9-8DB7-B00D7A87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8631-D51C-4B82-90B0-D3D69E8DE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5C324-D11C-4433-AE84-7089237C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7F67DB-6A15-4D87-8A35-490D3A2A0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CE8DEF-AC6F-47C6-B0D6-3C6EF4801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69E655-4882-4FFD-A41A-5E7B5EE92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BFDCFB-2622-48A6-80FF-C7E7A975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69D62B-A1F9-46DA-B096-7A0DBFA6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79A0D9-6D50-41DE-A652-00D3AC76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9913DD-D9A5-4E10-A971-F935EABE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27ED01-5BAD-4189-971D-EF859519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89C9DF-F23A-4ECE-BD8A-672E970E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E7304-34D3-4BB9-A8A8-A537EF7F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7468D6-F950-4D3C-9267-89BCA91A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012710-4304-4B34-9193-877D0FD2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D4028D-3DFD-43B2-A898-B23D9679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12BD2F-F8DF-4C5F-9CCF-79EE5C109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625DA0-2846-436C-B749-F3E5EED69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61A4F6-87C7-48FF-B4DB-AF28114C7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072E60-4092-4EA6-AEB0-3EE56CBE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751E10-7EE4-4264-BD52-741CB4F2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DEB21A-1DB1-479F-A3A2-81858B85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A5C0D1-9A76-4A23-ADA2-8EF2F14D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7507-2016-4180-9356-B1766F98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8036D7-1D82-40C6-BFF4-58636C60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D89F8B-6E43-403A-8E0A-EF93F15C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DB5E33-0C93-4A4A-8209-8D598E73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7E6825-4BBB-4758-A185-20A9A985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FC9850-CC57-4DCA-9EBF-A63CFF83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961635-14E3-4AF0-88A6-FCB46644E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1A3C08-2735-4B89-B862-158FD3105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B3BA5F-FA21-4857-9172-8CEAE011D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E1DA9C-0E59-4D4F-AF77-4C71BA38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0006C8-C03F-46BB-BD6B-E5F02452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B0611-E5B4-46DC-A3FE-41FFF2B4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5D2641-BD88-4352-BE16-B2EDAAEC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497418-BF4E-45A3-BB43-8B57F29B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21780C-25BD-432F-8BD9-399B518C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3EC40F-4826-4F97-B4D6-57E3BD1F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681822-E982-409B-B8A2-33760014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A5884B-63C4-4168-A793-CABCE2D8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AE9AC9-93EC-48D8-9C72-67B46A68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F28F53-BD4B-48E6-8FEA-4CC430210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E12B43-FD4E-4B6F-A2AD-C32E9CD9C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40CE6B-B456-4431-A49F-5787B6A52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4A2FB-818B-4670-BB32-2DE5FABE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ADA8A0-0DAE-4E28-9D0E-2EB49FFB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D0371E-5279-43B8-A367-76A51DB6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E981FA-F4D7-4730-A1E7-CFC43416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D53E30-B64D-4505-9625-63AD9D75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0A8023-8EAB-4795-9FA1-9C90136C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4C54FA-FECE-4B13-834B-C9203632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FA7E2B-91AD-4F41-94BE-31D0B46C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4605E3-CAAC-4F68-AB19-982440D2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D442E5-A6C2-432B-9292-BC07056F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5FE51F-D359-4AAA-A6D2-1949C5095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3880-0C55-4FB6-A9FC-FB1F5B02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39AFAB-3373-4353-B556-F5BC26AF0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9FBF03-3C2B-4AEB-8D48-A197298EE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02AA33-7F89-4833-85C6-7F227CFC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B7D979-EAAF-4341-BEE1-B1EDB5F3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C2D6D9-0541-48BD-94B2-DD2FE409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9F114B-D2F2-42C3-9F1C-716156B2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5C90ED-A0B4-411B-8401-718C0A2B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5A2781-579D-4778-BDBB-E6073A7B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239F0D-4CAF-4BE7-8E40-EC752407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D48FA1-6B4C-405E-8CEA-E5D2CA9C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9B2B-68AD-43A5-A907-03CC21F0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1B2AD2-E60E-4BF4-8013-C12DD090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26A00F-3C6C-4F11-B54F-E9314EBB4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C4D528-579A-49A5-90ED-3A40588E9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AD7B1B-00B7-493B-BAAE-E7D5FF5D1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0FDBCB-1770-4DBB-8CF2-2E523B57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66AD9C-42B5-434D-ABF7-A0C632AE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7C1A45-6E26-49C2-BF76-72819B46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B003B1-9809-44E1-8EEC-3424656D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73CE7F-AC44-4DD3-9242-4CE526A3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E853D2-E90A-4285-8D8A-35429A27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8C38-658B-40E1-B466-7218B5D3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0912-18FC-4A4F-A1A4-E237F7DE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61782B-F216-480C-A5EF-F80E147C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000458-E1C4-4B53-81E2-59F99833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619E13-0B90-421B-B48B-21824A5D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B2981E-272B-4968-81F5-EF4A35B2A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A56F75-E732-4198-8C39-60D8745F2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D086FA-A9BF-4035-A20C-0B22F3484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16F5B1-CC75-429A-AFBD-2A2E535F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11A78D-C757-456C-AAF1-FFB675BE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FCD4BF-DFFC-43AB-9816-4D648035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698B9D-2A68-4367-ACB1-4BABD468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CCA95-1DF9-4146-8622-1A1E117F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05FEB5-20EE-40ED-9538-005875C8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0EBCEB-A950-48B0-99D1-10E2650E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AA5A2A-3ED7-4BFB-BF46-3869E3AB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C54697-4DD6-4D1B-BA69-CE943441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514632-B0D4-4D20-8980-16FE2457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1EF9BE-9D52-47D5-B914-02BB0F695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EA1F11-479A-48F2-A75D-7C139426F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1738-568F-40A9-9DC7-48B6A701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5CE6-6975-491B-B3FC-A254F6F2F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A393-B39B-47E6-8119-928971A02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12ABC-E57B-4656-9DDD-3F6E01B91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F43B1-F096-442A-BB57-83CC2B9B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34994-AC1C-4D96-9604-531241C1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CAC4A-C99C-4AD5-93F3-1112C9D8D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FDA74-DCA6-4C40-AE54-36B6FC79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7614-650C-47D0-9855-FDABBC08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CE7DE-4E3E-4D54-BED7-308D1441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4088E-A869-4639-B820-5402DC24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01AB1-A52E-4814-AAE0-08F6ACAD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BED58-BFC9-4843-87BD-1220CAF1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F0558-0C12-419B-832B-5C5E1D01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728EC-04E7-4384-A4E5-941543738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27B84-8925-4E34-8DA2-B1BFB0D09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F55E0-CB9A-4E43-803F-EF18690EF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66E98-48EF-4B29-8889-FAABB0C2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C8CB3-D1CE-4A58-9150-6909AF93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0974-698F-43BB-8E7E-75D17978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066C4-D215-46D6-B169-15E99B83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F1D24-F234-4FF5-8D1F-CE7EA027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4FF3E-EAB8-46F7-A80F-129D6FAA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EB09D-F221-401C-8BCC-51D5D266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35476-D31E-4227-AA3F-9B18FBC7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0A3A3-A658-424B-99D6-D40D63BB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7B17B-5773-483D-8F1B-8D9405E9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C7690-457B-45C3-964A-C04BD6DEB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C2A16-7B87-4823-B103-2515BD02A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69E75-A286-4060-9B66-3239C4583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F70F-4762-4CFD-9B81-D110BC00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82F42-0CD6-4022-991B-B3D2E516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A9DE7-00E5-499D-AB56-BD123F72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83F33-EDE1-44D0-8FB6-9D3F7366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C10B7-D273-49D4-87DB-94F668A3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B95A6-3BFD-449A-85D1-8A93EDD5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30263-BAFF-4D5C-B44C-C6392FC5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7AA24-4490-4191-9237-17485A16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7F7B7-DCC5-49BC-9094-50ED8332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6ADBC-946C-418D-80E6-B3D94F13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5CC37-8D6A-41F8-8990-BAF52C666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DD50-25A2-447E-8ABD-71D94539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17448-55FF-468A-88FB-EEE95B3A2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BFA46-7472-44BD-9AAF-0405D1AE2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56731-4CB1-4C30-8C27-E351C495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35401-EDEF-446B-8C8E-C3A3EB44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301D8-4177-4CA2-999D-B7021D81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A6E22-F5ED-4A3C-B515-1988AABB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94BD4-63E5-428D-9FDC-E3D2FB8C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954F8-61E4-4CEB-8C92-2F9EE58A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54F03-B5B2-42E2-9F7D-8BF47A5A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6AD48-7B9F-4317-A2A8-3D0D7322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CCAD-9B05-42BF-9A8F-88B6146A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567F0-B863-4524-8DC0-0F1D7F08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3B4CF-2FE3-449F-B208-15D247827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426A5-240B-4A76-A969-4E21BF238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CEDAB-01CD-433E-8CAC-777DC4FB2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BEF11-E6BD-4590-A207-6444A818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498E5-98B5-47BE-9E46-B1D13D24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A845A-E9DC-44FE-BF9F-B076F60C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7CE8C-EBC7-4747-952A-BEE21AAA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644A8-A54E-42F2-8A00-93505754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FAD44-482B-4D20-B3B5-60A948B3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119A-C92B-4B65-88D6-5651B19E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4E1A4-3A00-45C6-97E1-2EF5E918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060D4-B0B4-4A66-B8A2-DA70DECF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5B5AC-68C5-4F36-8A69-97DD79E5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B799B-3E1C-4D5B-8C6B-3C4517D62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50734-B3F4-49A2-A9BA-5569B8BD9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BC96B-4EE8-4A4D-9FC7-E6D31F625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13B7B-472A-4273-818F-6EE28FFE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5B0C4-3230-4950-B049-BEA81D3F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BCEBC-F01A-4B16-870F-A46802E9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4987A-6420-496F-BEB2-E8961A0B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3BD5-59A1-4718-A84E-E64BF445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61F1D-DD50-404E-AA7B-03513368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92E41-C552-422A-BAFB-F874B56E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B8498-C3BE-4DBD-8E0A-2D841E2F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75084-E962-4DCB-9872-5A9D4D15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023F9-11A3-45CB-8E55-C49FFAB5F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5CC56-7FB1-4093-AD5E-86ABFE270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57EFD-3226-43D7-A258-77931ACEA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8C719-ADB1-4922-8517-932B80A6F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87075D-F34A-4651-9B0A-9D870C38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36E5C3-886B-4C0B-A7E7-716BF580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6D72-5343-4726-A148-4CE8B4156B7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CA1D-DD17-4AAE-9B1C-E98CAA56BB5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B752-1246-458C-961D-D5D76B3CD60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1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FFBD-E223-4439-AB49-B9EB4AE3E11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7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2D49-6604-4E8E-9315-D3F1F9AEE14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9B3B-05E5-4B69-B517-9CE5C1C932F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7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A092-51E0-44DB-B6DC-922A3EF9F17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850F-F439-46D9-85B9-332AB9E050C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0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0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00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 type="dt" idx="5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 type="ftr" idx="5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 type="sldNum" idx="5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C9B4-7C30-4992-85F6-A358F0EEA34D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D85B-3815-4A26-9447-CCDFB2C6C7E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8CDA-ADDC-4D7F-9570-104D783286F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9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40E3-D36A-49A0-AF07-DCB7D358AF5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D964-5E53-42BC-92A0-539D20C2548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9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1310-355B-4D6E-A520-868F3DAE1CA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331C-5FF2-4F5A-B636-60E3B935113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2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2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2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974E-ECCA-4EBF-94E8-6B1E25AE37F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8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719A-B3AB-4DA7-ADDF-73714C0D20B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8B3B-39EC-42F2-B9C3-5A6F219D91C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3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3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3B1C-0E9C-433B-96CC-0668831F664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1" dur="1" fill="hold"/>
                                  <p:tgtEl>
                                    <p:spTgt spid="10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9E29-8929-461D-A3D8-1E1C80971D5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98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34B5-A810-4D41-9B10-3C36133B115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3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05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0" dur="1" fill="hold"/>
                                  <p:tgtEl>
                                    <p:spTgt spid="1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C77C-F5D6-4884-8A6A-ED61CB269A8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0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2CAC-3F43-4EA4-957A-0C7E3520A50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16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8FD0-62F8-4A3E-B99F-AF2221C2E32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2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2" dur="1" fill="hold"/>
                                  <p:tgtEl>
                                    <p:spTgt spid="112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0AD5-3DCB-4FC3-806B-7C319BEF092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27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28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D7AA-82D3-4462-A936-1D09472F096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3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0" dur="1" fill="hold"/>
                                  <p:tgtEl>
                                    <p:spTgt spid="113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C9D9-56BF-4E6D-A839-076DFDB4D46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9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4" dur="1" fill="hold"/>
                                  <p:tgtEl>
                                    <p:spTgt spid="114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4060-ADE9-4F1C-B61F-936C502B97C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46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3" dur="1" fill="hold"/>
                                  <p:tgtEl>
                                    <p:spTgt spid="11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14" dur="1" fill="hold"/>
                                  <p:tgtEl>
                                    <p:spTgt spid="11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6F5D-564F-420A-80C8-2DD5B5D7618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2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31 October 201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7B5B-A542-4B66-B6FE-11AEC8D0610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1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8" dur="1" fill="hold"/>
                                  <p:tgtEl>
                                    <p:spTgt spid="1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FAA8-D158-4D40-B413-0EA1DC31127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8" dur="1" fill="hold"/>
                                  <p:tgtEl>
                                    <p:spTgt spid="115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31B3-37CF-44F9-A8DC-7D0D1322CFA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7" dur="1" fill="hold"/>
                                  <p:tgtEl>
                                    <p:spTgt spid="116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684F-D866-44A7-8BFB-7F49D14C479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946C-D318-43B6-A205-9A7E4217C91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2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B069-7092-4DFE-BE84-82C077CBA1F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7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9B9B-E064-473E-BE40-234A98AE0B1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83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84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85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6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7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8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89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0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1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2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193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194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195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6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7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8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9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0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1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2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08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09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0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AE3D-4C0C-4396-9F64-DCA701AFCD6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16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7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E373-3F2C-431A-8B01-24FA07AFB18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3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01C7-D4F9-4A93-A0EA-63B092B1E64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9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AD04-7A6F-4C43-8337-7C721EA8277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" dur="1" fill="hold"/>
                                  <p:tgtEl>
                                    <p:spTgt spid="105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0A3B-2B05-4E58-8C48-6FCB85A887E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5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D0D7-06E6-40F0-B6B8-9DC9D7F3C1A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1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2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4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5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2B46-C49F-4DC8-A91F-24DE2484548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7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8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49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4A68-3878-4FE1-BD3E-1C76CAF0DA4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54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4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9" dur="1" fill="hold"/>
                                  <p:tgtEl>
                                    <p:spTgt spid="125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6F01-615C-4B2E-9B84-2AAE253F07B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5397-3D35-4CE3-8629-7C612305A6F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66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5336-8863-4BBF-B764-E36A573FFF2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1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2" name="Text Box 4"/>
          <p:cNvSpPr/>
          <p:nvPr/>
        </p:nvSpPr>
        <p:spPr>
          <a:xfrm>
            <a:off x="1303200" y="3952800"/>
            <a:ext cx="769140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4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5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2361-8AE6-481E-B219-2186D32C636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77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F9BF-8990-417F-A85D-92C3BF78B7B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3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5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6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C650-424D-457C-90C0-75D41449977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88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89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0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E247-71C6-4C56-A721-BD649AC0C58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4" dur="1" fill="hold"/>
                                  <p:tgtEl>
                                    <p:spTgt spid="106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85" dur="1" fill="hold"/>
                                  <p:tgtEl>
                                    <p:spTgt spid="106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92D2-75E8-46D9-A423-5E54F7D603D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CAD3-103C-4277-8865-09B23FEF50A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1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3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1C58-D46D-450B-B31E-9532C61273B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9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1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3D54-13C7-4B18-A826-4B166A34276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7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9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71DC-878E-470C-9AD2-DEE38DE8072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24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6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2CA8-C78C-484C-90E4-9244714CDA8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3DEE-3A71-49AB-A3C1-DCE80285F60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37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38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9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0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1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E699-8A54-4C72-9723-6FA522E016B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46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47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EFFD-7435-4D3B-80A6-000D090AC01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54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55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6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9027-13E9-4C80-BD0F-86BC0AAB664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2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63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64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5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D73C-C1D1-4CE0-8BF1-7A743C38B2D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9" dur="1" fill="hold"/>
                                  <p:tgtEl>
                                    <p:spTgt spid="106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10" dur="1" fill="hold"/>
                                  <p:tgtEl>
                                    <p:spTgt spid="106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962F-F1AF-4873-82B0-D0B34472B63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1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2" name="Rectangle 7"/>
          <p:cNvSpPr/>
          <p:nvPr/>
        </p:nvSpPr>
        <p:spPr>
          <a:xfrm>
            <a:off x="271440" y="4076640"/>
            <a:ext cx="861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6058-25D0-4DD2-9357-8EBBF819975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63CB-1868-4575-A4C0-100207AC7D4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3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3" dur="1" fill="hold"/>
                                  <p:tgtEl>
                                    <p:spTgt spid="138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3389-191C-40F4-9765-D8E8527E5BE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9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0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1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8ECB-B450-49E4-BCF7-2D867689695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7" dur="1" fill="hold"/>
                                  <p:tgtEl>
                                    <p:spTgt spid="13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9F13-4C30-4ED5-850D-F6EFC0459D5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1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2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03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CE91-B5FB-4F5C-B541-FBCF61AC325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1" dur="1" fill="hold"/>
                                  <p:tgtEl>
                                    <p:spTgt spid="140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96BC-B389-4365-BDF8-41CB00559EB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0" dur="1" fill="hold"/>
                                  <p:tgtEl>
                                    <p:spTgt spid="14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7A9B-7986-44C9-AB39-4CEAD516D2E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3ABB-7FD1-4107-90B3-B3BAAC5FC9A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4" dur="1" fill="hold"/>
                                  <p:tgtEl>
                                    <p:spTgt spid="10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0AD1-769B-4E19-B0C8-DAB64D67C4C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8" dur="1" fill="hold"/>
                                  <p:tgtEl>
                                    <p:spTgt spid="107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2A5F-6218-446C-AF1B-D095FE6E5E4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5015-8BC5-4A54-A551-E0CCC24CD93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4" dur="1" fill="hold"/>
                                  <p:tgtEl>
                                    <p:spTgt spid="108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5" dur="1" fill="hold"/>
                                  <p:tgtEl>
                                    <p:spTgt spid="108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6" dur="1" fill="hold"/>
                                  <p:tgtEl>
                                    <p:spTgt spid="108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7" dur="1" fill="hold"/>
                                  <p:tgtEl>
                                    <p:spTgt spid="1088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13-08-28T11:02:27Z</dcterms:modified>
  <cp:revision>98</cp:revision>
  <dc:subject/>
  <dc:title>Aims and Objectives</dc:title>
</cp:coreProperties>
</file>